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D171-B6C2-4625-B186-04DF7F620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B70F-4592-4BA7-ABD9-8509538DA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DB75-3533-4B14-8F0B-904A141AC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C781-C0EE-42C5-967B-0F6EB9DFA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08249-058D-4450-AB25-A63D20FCC6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F9324-E3EC-4976-A4F2-DC0B9E9713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956D-5025-4C54-95F9-CAA80692D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A8EA2-20C7-430B-9315-D09F0ED85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EFB0F-3F62-4D21-8D7A-343610825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5D4DF-EC86-4BCE-878C-C148EEBDA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9103-3AEA-4777-AD4D-46C0CF641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2CEF-D94E-461D-97A9-CE8EBA531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3BA88-E85B-4E01-9846-8EA6FA649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55247-8202-49A2-B84D-FDAB6E12EA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B806B-BD12-4F5A-9C0F-400E173D9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7C3D4-65D6-422C-A7CB-4798B5D27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13322-1AFA-4C54-9D8D-607229EB4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5094-8358-4A76-B0DE-0E9923016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621E-1BF0-4ADE-8DFE-49524F51D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0C54-8B80-4576-9452-7E52EBE38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15E2-3917-4FAB-AEF8-BFAEAF65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E3B5-7D7A-44F2-9BD7-A73557187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D83B-FEC4-4E30-821E-6F676BA9C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3E5F-52BC-41B3-9771-B8AC2F596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979306B-71B0-47D6-85DC-CCBB482D1D1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7BFBE34-8815-451A-89F8-D6C47F98068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5D3370A-17EF-465D-8527-20F0B5F1D9C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7FA354-350C-499C-A37A-879190F1463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6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80060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505320"/>
            <a:ext cx="44956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780320" cy="472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160" y="2895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133720"/>
            <a:ext cx="586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owe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19720" y="1523880"/>
          <a:ext cx="4495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495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419720" y="4038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Administrator</cp:lastModifiedBy>
  <dcterms:modified xsi:type="dcterms:W3CDTF">2009-11-06T16:33:57Z</dcterms:modified>
  <cp:revision>353</cp:revision>
  <dc:subject/>
  <dc:title>No Slide Title</dc:title>
</cp:coreProperties>
</file>